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45517-DD4D-402B-8A6F-456768557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2001-7998-4203-A324-38FED26AA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51959-807E-442F-96DD-6505EFB47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3421F-9A4C-4D41-B09B-25CD63C97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C2AE-9370-4F35-8FA9-22C64387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376B-E866-4604-A9FB-12B255C24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350D7-4533-4F6F-922B-64BD02B21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694A-D0AF-425E-9FC0-97E8B3AD3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01B6A-F230-4CDA-BD39-5088B8830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440C-2E0F-4CF2-A83B-398DA59BD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BF3F-57CA-4A8F-91C1-6C81062D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EAA9-FAF1-4133-A0C3-5587B31E2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B650-E006-482E-B541-92F6BDF3C81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C71753F6-F97C-4905-8118-BAF27865B2F7}" type="datetime2">
              <a:rPr b="0" lang="en-GB" sz="4000" spc="-1" strike="noStrike" u="sng">
                <a:solidFill>
                  <a:srgbClr val="000000"/>
                </a:solidFill>
                <a:uFillTx/>
                <a:latin typeface="Arial"/>
                <a:ea typeface="Verdana"/>
              </a:rPr>
              <a:t>Wednesday 29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